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460-1674-42F4-9239-4A534E72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9BA-DAC1-412F-80AB-13389139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9F6-E3CB-4417-928E-425EE91A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A67-303A-467A-A03D-394255BE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F226-7F4F-4C3D-BC87-EE978A12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4181-7478-4516-9958-160B7AF3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678E-16B5-4F5B-BEDC-0B39EAB2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8B2B-C8BE-4EEC-8D6E-D4362F4C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5139-E2D7-45E6-9CD9-E9C761CE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72CD-0CFE-44B2-87E2-81E9E0D0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55BD-A70B-484B-8F01-8B2BA08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7CF-632F-401C-975D-D39CB889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CB10-6E4A-4716-96A8-60FEEB7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C409-30A6-4B58-9C16-EA9C2415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6A6E-8066-41D2-A16D-F26879D6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4AF-C2D4-4001-8686-F24EF70D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1B3D-EBF4-4BD0-B001-89A77888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105-AB2C-4D2A-A938-8A42D63A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5A4-4F58-4BC1-AEB7-54A271B9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901-47C0-46CE-827B-B0523981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9BF-E515-4399-8C25-856E49D7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E14-F119-4146-B185-29F9D94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DD4-99A2-4500-ABBC-5833B5BA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03D-A9F1-421C-BA91-2F82916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58C-3F2B-4CC8-BE0F-E48FD3302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6CCB-5566-4D3D-9BEF-BDD43A1A2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2683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Cell Transport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Tahoma"/>
              </a:rPr>
              <a:t>Pages </a:t>
            </a:r>
            <a:r>
              <a:rPr b="0" lang="en-US" sz="4500" spc="-1" strike="noStrike">
                <a:solidFill>
                  <a:srgbClr val="ccecff"/>
                </a:solidFill>
                <a:latin typeface="Tahoma"/>
                <a:ea typeface="Times New Roman"/>
              </a:rPr>
              <a:t>41-42 &amp; 184-189</a:t>
            </a:r>
            <a:r>
              <a:rPr b="0" lang="en-US" sz="45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548640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388620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% 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133720"/>
            <a:ext cx="2895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solvent enters the cel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00600"/>
            <a:ext cx="2133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cell gets    bigg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4038480"/>
            <a:ext cx="1079640" cy="167652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632" y="1056"/>
                </a:moveTo>
                <a:cubicBezTo>
                  <a:pt x="316" y="928"/>
                  <a:pt x="0" y="800"/>
                  <a:pt x="8" y="624"/>
                </a:cubicBezTo>
                <a:cubicBezTo>
                  <a:pt x="16" y="448"/>
                  <a:pt x="348" y="224"/>
                  <a:pt x="680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Facilitated Diffusio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solute from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high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 to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ow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, using cell membrane channels; requires no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Active Transport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solute from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ow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concentration to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hig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concentration; requires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257800"/>
            <a:ext cx="2666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733920"/>
            <a:ext cx="1143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% 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486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133720"/>
            <a:ext cx="2895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solute enters the cel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4800600"/>
            <a:ext cx="2133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cell gets    bigg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038480"/>
            <a:ext cx="1079640" cy="167652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632" y="1056"/>
                </a:moveTo>
                <a:cubicBezTo>
                  <a:pt x="316" y="928"/>
                  <a:pt x="0" y="800"/>
                  <a:pt x="8" y="624"/>
                </a:cubicBezTo>
                <a:cubicBezTo>
                  <a:pt x="16" y="448"/>
                  <a:pt x="348" y="224"/>
                  <a:pt x="680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Large Molecule </a:t>
            </a:r>
            <a:br>
              <a:rPr sz="5000"/>
            </a:b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(Bulk) Transport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arg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molecules (food or waste) into or out of the cell, using extensions of the cell membrane; requires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Homeostasis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eping constant internal conditions; cell transport allow for homeostasis to occu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533520"/>
            <a:ext cx="6400800" cy="7617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ssive Trans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1371600"/>
            <a:ext cx="1800" cy="853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286000"/>
            <a:ext cx="6248520" cy="1098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concentration gradient (from high to low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733920"/>
            <a:ext cx="1800" cy="1249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5105520"/>
            <a:ext cx="6172200" cy="14475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mos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facilitated diffu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14479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vement 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39625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533520"/>
            <a:ext cx="6400800" cy="7617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tive Trans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371600"/>
            <a:ext cx="1800" cy="853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286000"/>
            <a:ext cx="6248520" cy="1098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inst the concentration gradient (from low to high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4479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vement 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14400" y="533520"/>
            <a:ext cx="6400800" cy="7617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Large Molecule (Bulk) Transpor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1371600"/>
            <a:ext cx="0" cy="853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286000"/>
            <a:ext cx="6248520" cy="1098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dependent upon the concentration gradi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733920"/>
            <a:ext cx="0" cy="1249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05520"/>
            <a:ext cx="6172200" cy="1371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cytosis 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ocytosi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14479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vement 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9625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Review the Cell Membra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8" name="CellMembrane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6197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Endocytosis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0" name="Endocytosis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75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Exocytosis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2" name="Exocytosis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46688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Solutio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.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Solut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- the part of the                                                                                                                solution that is being                 dissolved (ex:  kool-aid  powde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Solutio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2.  Solv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- the part of the                                      solution that is doing the              dissolving (ex:  wate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Diffusio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solute from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high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 (amount) to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ow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; does not require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257800"/>
            <a:ext cx="2666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3733920"/>
            <a:ext cx="1143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% 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638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7339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4343400"/>
            <a:ext cx="1104840" cy="1600200"/>
          </a:xfrm>
          <a:custGeom>
            <a:avLst/>
            <a:gdLst/>
            <a:ahLst/>
            <a:rect l="l" t="t" r="r" b="b"/>
            <a:pathLst>
              <a:path w="696" h="1008">
                <a:moveTo>
                  <a:pt x="696" y="0"/>
                </a:moveTo>
                <a:cubicBezTo>
                  <a:pt x="372" y="84"/>
                  <a:pt x="48" y="168"/>
                  <a:pt x="24" y="336"/>
                </a:cubicBezTo>
                <a:cubicBezTo>
                  <a:pt x="0" y="504"/>
                  <a:pt x="464" y="896"/>
                  <a:pt x="552" y="1008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2514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solute exits the cel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800600"/>
            <a:ext cx="2133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*cell gets    small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Osmosis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vement of solvent (water) from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high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 to an area of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low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ntration; does not require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hat will happen?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362320"/>
            <a:ext cx="2413080" cy="2781360"/>
          </a:xfrm>
          <a:custGeom>
            <a:avLst/>
            <a:gdLst/>
            <a:ahLst/>
            <a:rect l="l" t="t" r="r" b="b"/>
            <a:pathLst>
              <a:path w="1910" h="1752">
                <a:moveTo>
                  <a:pt x="1904" y="24"/>
                </a:moveTo>
                <a:cubicBezTo>
                  <a:pt x="1904" y="244"/>
                  <a:pt x="1904" y="464"/>
                  <a:pt x="1904" y="648"/>
                </a:cubicBezTo>
                <a:cubicBezTo>
                  <a:pt x="1904" y="832"/>
                  <a:pt x="1904" y="998"/>
                  <a:pt x="1904" y="1128"/>
                </a:cubicBezTo>
                <a:cubicBezTo>
                  <a:pt x="1904" y="1258"/>
                  <a:pt x="1906" y="1350"/>
                  <a:pt x="1904" y="1428"/>
                </a:cubicBezTo>
                <a:cubicBezTo>
                  <a:pt x="1902" y="1506"/>
                  <a:pt x="1910" y="1560"/>
                  <a:pt x="1892" y="1596"/>
                </a:cubicBezTo>
                <a:cubicBezTo>
                  <a:pt x="1874" y="1632"/>
                  <a:pt x="1858" y="1626"/>
                  <a:pt x="1796" y="1644"/>
                </a:cubicBezTo>
                <a:cubicBezTo>
                  <a:pt x="1734" y="1662"/>
                  <a:pt x="1662" y="1686"/>
                  <a:pt x="1520" y="1704"/>
                </a:cubicBezTo>
                <a:cubicBezTo>
                  <a:pt x="1378" y="1722"/>
                  <a:pt x="1112" y="1752"/>
                  <a:pt x="944" y="1752"/>
                </a:cubicBezTo>
                <a:cubicBezTo>
                  <a:pt x="776" y="1752"/>
                  <a:pt x="656" y="1728"/>
                  <a:pt x="512" y="1704"/>
                </a:cubicBezTo>
                <a:cubicBezTo>
                  <a:pt x="368" y="1680"/>
                  <a:pt x="160" y="1672"/>
                  <a:pt x="80" y="1608"/>
                </a:cubicBezTo>
                <a:cubicBezTo>
                  <a:pt x="0" y="1544"/>
                  <a:pt x="40" y="1464"/>
                  <a:pt x="32" y="1320"/>
                </a:cubicBezTo>
                <a:cubicBezTo>
                  <a:pt x="24" y="1176"/>
                  <a:pt x="32" y="944"/>
                  <a:pt x="32" y="744"/>
                </a:cubicBezTo>
                <a:cubicBezTo>
                  <a:pt x="32" y="544"/>
                  <a:pt x="32" y="240"/>
                  <a:pt x="32" y="120"/>
                </a:cubicBezTo>
                <a:cubicBezTo>
                  <a:pt x="32" y="0"/>
                  <a:pt x="32" y="40"/>
                  <a:pt x="32" y="2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5257800"/>
            <a:ext cx="2666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03480" y="2959200"/>
            <a:ext cx="2355840" cy="2158920"/>
          </a:xfrm>
          <a:custGeom>
            <a:avLst/>
            <a:gdLst/>
            <a:ahLst/>
            <a:rect l="l" t="t" r="r" b="b"/>
            <a:pathLst>
              <a:path w="1484" h="1360">
                <a:moveTo>
                  <a:pt x="28" y="104"/>
                </a:moveTo>
                <a:cubicBezTo>
                  <a:pt x="44" y="88"/>
                  <a:pt x="92" y="144"/>
                  <a:pt x="124" y="152"/>
                </a:cubicBezTo>
                <a:cubicBezTo>
                  <a:pt x="156" y="160"/>
                  <a:pt x="188" y="160"/>
                  <a:pt x="220" y="152"/>
                </a:cubicBezTo>
                <a:cubicBezTo>
                  <a:pt x="252" y="144"/>
                  <a:pt x="284" y="128"/>
                  <a:pt x="316" y="104"/>
                </a:cubicBezTo>
                <a:cubicBezTo>
                  <a:pt x="348" y="80"/>
                  <a:pt x="380" y="16"/>
                  <a:pt x="412" y="8"/>
                </a:cubicBezTo>
                <a:cubicBezTo>
                  <a:pt x="444" y="0"/>
                  <a:pt x="484" y="32"/>
                  <a:pt x="508" y="56"/>
                </a:cubicBezTo>
                <a:cubicBezTo>
                  <a:pt x="532" y="80"/>
                  <a:pt x="516" y="136"/>
                  <a:pt x="556" y="152"/>
                </a:cubicBezTo>
                <a:cubicBezTo>
                  <a:pt x="596" y="168"/>
                  <a:pt x="708" y="168"/>
                  <a:pt x="748" y="152"/>
                </a:cubicBezTo>
                <a:cubicBezTo>
                  <a:pt x="788" y="136"/>
                  <a:pt x="772" y="64"/>
                  <a:pt x="796" y="56"/>
                </a:cubicBezTo>
                <a:cubicBezTo>
                  <a:pt x="820" y="48"/>
                  <a:pt x="852" y="88"/>
                  <a:pt x="892" y="104"/>
                </a:cubicBezTo>
                <a:cubicBezTo>
                  <a:pt x="932" y="120"/>
                  <a:pt x="996" y="152"/>
                  <a:pt x="1036" y="152"/>
                </a:cubicBezTo>
                <a:cubicBezTo>
                  <a:pt x="1076" y="152"/>
                  <a:pt x="1108" y="128"/>
                  <a:pt x="1132" y="104"/>
                </a:cubicBezTo>
                <a:cubicBezTo>
                  <a:pt x="1156" y="80"/>
                  <a:pt x="1156" y="8"/>
                  <a:pt x="1180" y="8"/>
                </a:cubicBezTo>
                <a:cubicBezTo>
                  <a:pt x="1204" y="8"/>
                  <a:pt x="1244" y="80"/>
                  <a:pt x="1276" y="104"/>
                </a:cubicBezTo>
                <a:cubicBezTo>
                  <a:pt x="1308" y="128"/>
                  <a:pt x="1340" y="144"/>
                  <a:pt x="1372" y="152"/>
                </a:cubicBezTo>
                <a:cubicBezTo>
                  <a:pt x="1404" y="160"/>
                  <a:pt x="1452" y="120"/>
                  <a:pt x="1468" y="152"/>
                </a:cubicBezTo>
                <a:cubicBezTo>
                  <a:pt x="1484" y="184"/>
                  <a:pt x="1468" y="288"/>
                  <a:pt x="1468" y="344"/>
                </a:cubicBezTo>
                <a:cubicBezTo>
                  <a:pt x="1468" y="400"/>
                  <a:pt x="1468" y="424"/>
                  <a:pt x="1468" y="488"/>
                </a:cubicBezTo>
                <a:cubicBezTo>
                  <a:pt x="1468" y="552"/>
                  <a:pt x="1468" y="656"/>
                  <a:pt x="1468" y="728"/>
                </a:cubicBezTo>
                <a:cubicBezTo>
                  <a:pt x="1468" y="800"/>
                  <a:pt x="1468" y="856"/>
                  <a:pt x="1468" y="920"/>
                </a:cubicBezTo>
                <a:cubicBezTo>
                  <a:pt x="1468" y="984"/>
                  <a:pt x="1468" y="1064"/>
                  <a:pt x="1468" y="1112"/>
                </a:cubicBezTo>
                <a:cubicBezTo>
                  <a:pt x="1468" y="1160"/>
                  <a:pt x="1484" y="1184"/>
                  <a:pt x="1468" y="1208"/>
                </a:cubicBezTo>
                <a:cubicBezTo>
                  <a:pt x="1452" y="1232"/>
                  <a:pt x="1412" y="1240"/>
                  <a:pt x="1372" y="1256"/>
                </a:cubicBezTo>
                <a:cubicBezTo>
                  <a:pt x="1332" y="1272"/>
                  <a:pt x="1284" y="1288"/>
                  <a:pt x="1228" y="1304"/>
                </a:cubicBezTo>
                <a:cubicBezTo>
                  <a:pt x="1172" y="1320"/>
                  <a:pt x="1132" y="1344"/>
                  <a:pt x="1036" y="1352"/>
                </a:cubicBezTo>
                <a:cubicBezTo>
                  <a:pt x="940" y="1360"/>
                  <a:pt x="756" y="1360"/>
                  <a:pt x="652" y="1352"/>
                </a:cubicBezTo>
                <a:cubicBezTo>
                  <a:pt x="548" y="1344"/>
                  <a:pt x="492" y="1320"/>
                  <a:pt x="412" y="1304"/>
                </a:cubicBezTo>
                <a:cubicBezTo>
                  <a:pt x="332" y="1288"/>
                  <a:pt x="236" y="1272"/>
                  <a:pt x="172" y="1256"/>
                </a:cubicBezTo>
                <a:cubicBezTo>
                  <a:pt x="108" y="1240"/>
                  <a:pt x="56" y="1232"/>
                  <a:pt x="28" y="1208"/>
                </a:cubicBezTo>
                <a:cubicBezTo>
                  <a:pt x="0" y="1184"/>
                  <a:pt x="8" y="1170"/>
                  <a:pt x="4" y="1112"/>
                </a:cubicBezTo>
                <a:cubicBezTo>
                  <a:pt x="0" y="1054"/>
                  <a:pt x="2" y="926"/>
                  <a:pt x="4" y="860"/>
                </a:cubicBezTo>
                <a:cubicBezTo>
                  <a:pt x="6" y="794"/>
                  <a:pt x="12" y="786"/>
                  <a:pt x="16" y="716"/>
                </a:cubicBezTo>
                <a:cubicBezTo>
                  <a:pt x="20" y="646"/>
                  <a:pt x="26" y="518"/>
                  <a:pt x="28" y="440"/>
                </a:cubicBezTo>
                <a:cubicBezTo>
                  <a:pt x="30" y="362"/>
                  <a:pt x="28" y="296"/>
                  <a:pt x="28" y="248"/>
                </a:cubicBezTo>
                <a:cubicBezTo>
                  <a:pt x="28" y="200"/>
                  <a:pt x="12" y="120"/>
                  <a:pt x="28" y="104"/>
                </a:cubicBezTo>
                <a:close/>
              </a:path>
            </a:pathLst>
          </a:custGeom>
          <a:solidFill>
            <a:srgbClr val="0000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1400" y="2057400"/>
            <a:ext cx="236556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505320"/>
            <a:ext cx="1447920" cy="1143000"/>
          </a:xfrm>
          <a:custGeom>
            <a:avLst/>
            <a:gdLst/>
            <a:ahLst/>
            <a:rect l="l" t="t" r="r" b="b"/>
            <a:pathLst>
              <a:path w="792" h="688">
                <a:moveTo>
                  <a:pt x="144" y="64"/>
                </a:moveTo>
                <a:cubicBezTo>
                  <a:pt x="200" y="16"/>
                  <a:pt x="240" y="0"/>
                  <a:pt x="336" y="16"/>
                </a:cubicBezTo>
                <a:cubicBezTo>
                  <a:pt x="432" y="32"/>
                  <a:pt x="648" y="104"/>
                  <a:pt x="720" y="160"/>
                </a:cubicBezTo>
                <a:cubicBezTo>
                  <a:pt x="792" y="216"/>
                  <a:pt x="776" y="272"/>
                  <a:pt x="768" y="352"/>
                </a:cubicBezTo>
                <a:cubicBezTo>
                  <a:pt x="760" y="432"/>
                  <a:pt x="760" y="592"/>
                  <a:pt x="672" y="640"/>
                </a:cubicBezTo>
                <a:cubicBezTo>
                  <a:pt x="584" y="688"/>
                  <a:pt x="336" y="656"/>
                  <a:pt x="240" y="640"/>
                </a:cubicBezTo>
                <a:cubicBezTo>
                  <a:pt x="144" y="624"/>
                  <a:pt x="136" y="600"/>
                  <a:pt x="96" y="544"/>
                </a:cubicBezTo>
                <a:cubicBezTo>
                  <a:pt x="56" y="488"/>
                  <a:pt x="0" y="384"/>
                  <a:pt x="0" y="304"/>
                </a:cubicBezTo>
                <a:cubicBezTo>
                  <a:pt x="0" y="224"/>
                  <a:pt x="88" y="112"/>
                  <a:pt x="144" y="64"/>
                </a:cubicBezTo>
                <a:close/>
              </a:path>
            </a:pathLst>
          </a:custGeom>
          <a:solidFill>
            <a:srgbClr val="ccff66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733920"/>
            <a:ext cx="1143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% 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% s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8:41:46Z</dcterms:created>
  <dc:creator>Robert Burke</dc:creator>
  <dc:description/>
  <dc:language>en-US</dc:language>
  <cp:lastModifiedBy>Plano ISD</cp:lastModifiedBy>
  <dcterms:modified xsi:type="dcterms:W3CDTF">2004-09-22T16:37:03Z</dcterms:modified>
  <cp:revision>28</cp:revision>
  <dc:subject/>
  <dc:title>Cell Membrane  &amp;</dc:title>
</cp:coreProperties>
</file>